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11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applause.wav" ContentType="audio/x-wav"/>
  <Override PartName="/ppt/media/image7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7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26T23:21:53.886000000" idx="2">
    <p:pos x="4163" y="105"/>
    <p:text/>
  </p:cm>
</p:cmLst>
</file>

<file path=ppt/comments/comment7.xml><?xml version="1.0" encoding="utf-8"?>
<p:cmLst xmlns:p="http://schemas.openxmlformats.org/presentationml/2006/main">
  <p:cm authorId="0" dt="2016-08-26T23:21:47.367000000" idx="1">
    <p:pos x="3792" y="556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DD5-4031-466D-A95C-E23F1AA6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85D-F78E-4994-8CD8-215A6516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2416-EF94-4346-BCA4-F794D708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FDB77-4FFD-426E-B1BA-751DBFFA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28132-FCE7-406D-A35C-0853C252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51B8-C939-4F5D-84AB-82490B8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CDB9-1233-4C31-8D85-16015C74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8EF05-8323-4B78-809A-CB9EA28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08E4F-F47C-45EB-BD65-AC7723AB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752F2-EDF3-423C-AF88-CA4FD188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B84AC-673B-481B-870B-8F890CB2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8139C-5C72-4E3F-8D31-F0CE3093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799-CB6A-43F1-AE15-2EECAB23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B348B-14FE-4168-B113-D7B7AE2B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ED50A-7D5A-4438-8C4A-31DA1EE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0E8C2-ED28-4BAC-A227-FE4CD9C8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E67EC-C9DA-4C59-BD62-B5518E78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E4286-892D-42A4-8424-8DD38596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0D085-2E52-4091-B7FE-5FDE46A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35A32-4B7E-451D-92E3-521CCCD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55BC-C4E1-47D1-95D4-3129915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A3098-5AA1-4F14-B609-AAFC843D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47E93-8E1F-4471-B6B2-6F1E4138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09E-76C8-44AA-882D-5DEF2009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D011F-92ED-429F-B801-D60F2861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CD7F-A9B6-4DF6-95AD-9D1A814F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CA0D4-A644-4EBD-A3E1-9E9060E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D0710-78DD-4C5E-9165-364428CF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40FA-FE7D-46A9-8873-0AE425B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0040A-D5B4-4E23-9677-2E76AA94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FB28C-11B8-40DC-9F49-47757500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CDEA4-1105-4220-BFDB-D4A78FD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469C3-48DE-4974-B034-872FBBC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1A1EF-94D7-4290-86D8-32120938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213C-B892-413B-BA57-BAC9CB67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2252-EBBC-40AC-B510-FE5C8F6D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64161-EED6-4620-86D6-0FECBE25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D243-8B1D-40BD-8DF6-4A94CFE1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A2213-D101-40AA-A80C-60A85306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E3438-96F6-41AA-8B3C-E9AF4E1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C3907-D080-4FF3-9868-E610A88E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517D1-B040-4CC3-BB27-47D5B10B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E24E5-9940-45B0-9EA1-FD4A69CB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ABC1F-3A2D-4608-985E-3586970B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84A29-E43C-4335-AF9B-CD7306C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05CB-FA48-4A4D-A42A-AD6BDDA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7314C-18A8-41AE-97C8-BEBDAD30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4995B-E25C-4B2D-AC74-8010611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639F7-9112-452B-862C-7BF5DE94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DA668-98EA-4F6A-B0C7-64E23353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FA828-AF9D-4A1F-85B4-4A659308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F958-48CF-42DB-8F72-509D378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66C6-53DE-45F8-B5B0-7899F255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1110-EBDC-40BE-93CF-7C9E11DE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4AC-9B58-4988-9A37-5AAC955C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31D-5BC1-4256-AA12-5D911CE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84B-B9FD-4383-87C3-4BA4C0D9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1EDA-FBCE-4F0E-8E4A-59BC8AE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9AD-5A21-4BFB-B9B5-38AED5DC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0606-BFA8-4FD5-A920-82A6FFB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3A96-1360-4B3C-8F4C-B9EBF109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476E-FED9-446A-9721-364F48C7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2547-6B4B-4FBA-923F-515D0368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55A3-CEDD-4851-BCCA-2E9B7D5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D72C-A73F-4318-9C89-5CF3C432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69AE-9896-4664-A9FF-8D88903C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AED0-B91F-42BE-81E7-E5E1613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067-6D72-465F-BA7B-3320AFE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53AE-2E24-4EE7-93CF-0DEE1FD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C7FC9-09B6-404D-AB41-3B52F649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6621-5FF1-4AD6-B65B-5D76790C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6B3C-207C-4D59-BF9B-711F323A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AD04-777A-41FB-9EC1-BC532EC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262D-20A2-497A-8342-567603BC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7F5D-10FF-4D7A-916D-BAAE5530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FEB4-6CD6-44FD-8B72-5950C9C5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4C9CB-4384-4039-AF22-93F84C69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4104-C5D3-4B32-A10A-A3C41074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C73-C1F7-41A0-9E3F-137570A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AC67-7BF1-46B6-930E-0C641021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407F-71EE-4B6E-98B9-F9A060B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87D0-1CEB-48DB-A6C8-04FAAB9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FA06-37EC-4D77-A8D1-526B399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99F6-1701-4791-B582-BC89124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B01C-C453-44B2-8764-FA5C217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E722-5661-4B9B-9DFD-B79E30F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2788-5AFD-4EAD-A3E9-5FEF5308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8060-6976-4380-A840-5667C857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437A-BADD-4C70-9778-FC7BA150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738-57C6-4FF1-A7AB-58D09919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1190-D299-4C32-B226-36EB009C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70AD-048E-4844-A117-96623DB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49DC-2E88-4FDF-B25E-53C3D17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1372-D476-4923-BD70-B0C3352A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E3929-C523-4E0D-A82D-68A31B1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DC28-A669-48C3-B4DB-EE7029B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E7DE-26A0-461B-9AF1-3F5993B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9F77-C213-43C4-B7F2-4D7A0C8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3F78-8A01-4466-8765-A3A67E0A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321F6-BA89-44A0-A832-78F69646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BAD-5057-4119-9DFC-8F9065B8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A717-352A-427E-896B-C99F423F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E6E4F-DDA3-415C-A329-A5CB0948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5774-36C4-4BB4-B887-29EA43C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E011-61F1-438B-B2E7-4ADBFAFD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6890-127A-4F41-803C-6338FF55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4A0B-1E74-4147-B6EC-7430E84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4812-BAA0-47AD-AC2F-B413EFA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47C2-2F42-40E0-91CB-DB486A6F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A876-E066-40D5-9F8F-0FC0CF2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5D63F-F99F-4BDA-B999-A760085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B80-BEFB-4C6A-9F95-93DE2B4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567D-95C3-47B0-B81F-A8F0EA1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54A0-791E-41B8-80CF-80D4A2C3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6ADF-57B5-4173-BE57-87681086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86EB-48DF-4C0B-80E4-4D4CBEB7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8620-EF55-49E5-91E2-A20119B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F7C25-9631-4669-9209-D5DED7E1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B3343-A289-45EC-8992-98D07ED4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D4AF5-5705-40E6-AE06-9C84833C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C8144-5630-496D-B004-C821355C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272FF-62D9-4161-9948-4FD0E27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500-9EEB-46A2-B676-EA2B8D5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0EC05-1EA2-4082-9ECB-E4A6AFE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80730-40B5-4EF0-A8EC-93B83DC6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A3D0-E1DE-452C-925C-49FCB9B9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DF14E-FDE0-4B71-AFB9-A38142C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D2981-952B-4F2D-ACEC-4C66C75F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7B7D-522C-43F7-9361-0896F9D7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E6A6-2C3E-462F-8C0D-7A95812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73DE-66A5-47A2-8FCE-F3B6BFC9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FE273-03C5-447D-8EFF-9E62214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67ADA-A35A-4E99-87A6-764E5D6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34E-D0CA-437C-A484-2B934B03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0773-635F-4964-97EB-35E50A11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9DF74-C7D3-498F-A010-80B3413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2D04-FAB9-4A16-92DE-84B51FB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6BD7-E1B4-4514-8449-4FCE876A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CE82-3D3F-4DC9-ADA7-AE7630D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6600-BA4A-4D56-9EBB-EA3AD42B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0E48-E40C-44F7-8F6D-FCBE26A9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8EFCE-43D3-457F-AC4B-F2615011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E0B15-8AB9-4EDE-A737-F42797C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7C6CB-54DF-439E-952D-1EB42083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EE78-3C58-45B4-AF41-C8288B0270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2C8F-D7BF-4A5B-84DC-E319AA329C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9EDE-0D08-4068-AB7A-38AE4F4476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C82-FE5D-4058-BD3C-35D6D3EB451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图片 34831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2187-DF4D-4153-8B9A-AA36DACFCCF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8776-693D-4538-9195-3373411CB2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577F-D991-42EC-A7A9-0AB2CE7AD6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C3EB-EBAB-49E5-96CD-E14383C4A3E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76E3-17CB-40BC-A358-2DFE87622D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E8A4-C03C-4349-A06F-A9C124BDDDD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FD3D-73B4-42C3-B5FE-AC40D4AE3D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DE68-530F-4073-8190-B405273465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3" name="矩形 4"/>
          <p:cNvSpPr/>
          <p:nvPr/>
        </p:nvSpPr>
        <p:spPr>
          <a:xfrm>
            <a:off x="2472480" y="638280"/>
            <a:ext cx="55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zh  ch  sh r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79280" y="2697120"/>
            <a:ext cx="86742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3366ff"/>
                </a:solidFill>
                <a:uFillTx/>
                <a:latin typeface="Calibri"/>
                <a:ea typeface="楷体_GB2312"/>
              </a:rPr>
              <a:t>               </a:t>
            </a:r>
            <a:r>
              <a:rPr b="0" i="1" lang="zh-CN" sz="7200" spc="-1" strike="noStrike" u="sng">
                <a:solidFill>
                  <a:srgbClr val="3366ff"/>
                </a:solidFill>
                <a:uFillTx/>
                <a:latin typeface="Calibri"/>
                <a:ea typeface="楷体_GB2312"/>
              </a:rPr>
              <a:t>zh   ch   sh  r 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3366ff"/>
                </a:solidFill>
                <a:uFillTx/>
                <a:latin typeface="Calibri"/>
                <a:ea typeface="楷体_GB2312"/>
              </a:rPr>
              <a:t>zhi   chi  shi  ri  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396720" y="981000"/>
            <a:ext cx="82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比  一  比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743040" y="285444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声母 ：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25440" y="4726080"/>
            <a:ext cx="226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整体认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   </a:t>
            </a:r>
            <a:r>
              <a:rPr b="0" i="1" lang="zh-CN" sz="4800" spc="-1" strike="noStrike" u="sng">
                <a:solidFill>
                  <a:srgbClr val="ff5050"/>
                </a:solidFill>
                <a:uFillTx/>
                <a:latin typeface="Arial"/>
                <a:ea typeface="黑体"/>
              </a:rPr>
              <a:t>读音节：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939960" y="817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0000"/>
                </a:solidFill>
                <a:uFillTx/>
                <a:latin typeface="Calibri"/>
                <a:ea typeface="黑体"/>
              </a:rPr>
              <a:t>整 体 认 读 音 节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878040" y="1700280"/>
            <a:ext cx="7488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zh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zhī  zhí  zhǐ  zh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ch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chī  chí  chǐ  chì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shī  shí  shǐ  sh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ri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rī      rí     rǐ     rì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WordArt 2"/>
          <p:cNvSpPr txBox="1"/>
          <p:nvPr/>
        </p:nvSpPr>
        <p:spPr>
          <a:xfrm>
            <a:off x="4068720" y="1125360"/>
            <a:ext cx="266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幼圆"/>
              </a:rPr>
              <a:t>比一比</a:t>
            </a:r>
            <a:endParaRPr b="0" i="1" lang="en-US" sz="2400" spc="1" strike="noStrike" u="sng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幼圆"/>
              <a:ea typeface="幼圆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469800" y="371808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  ch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541440" y="515772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  sh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4861080" y="22845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i zhi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4861080" y="37180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i chi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861080" y="515772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i shi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469800" y="2297160"/>
            <a:ext cx="41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  zh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32" name="Picture 9" descr="girl3"/>
          <p:cNvPicPr/>
          <p:nvPr/>
        </p:nvPicPr>
        <p:blipFill>
          <a:blip r:embed="rId1"/>
          <a:stretch/>
        </p:blipFill>
        <p:spPr>
          <a:xfrm>
            <a:off x="7240680" y="4591080"/>
            <a:ext cx="1592280" cy="1871640"/>
          </a:xfrm>
          <a:prstGeom prst="rect">
            <a:avLst/>
          </a:prstGeom>
          <a:ln w="0">
            <a:noFill/>
          </a:ln>
        </p:spPr>
      </p:pic>
      <p:sp>
        <p:nvSpPr>
          <p:cNvPr id="6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4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图片 1" descr=""/>
          <p:cNvPicPr/>
          <p:nvPr/>
        </p:nvPicPr>
        <p:blipFill>
          <a:blip r:embed="rId1"/>
          <a:stretch/>
        </p:blipFill>
        <p:spPr>
          <a:xfrm>
            <a:off x="685800" y="851040"/>
            <a:ext cx="7723080" cy="53290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2057400" y="1295280"/>
            <a:ext cx="1152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6600"/>
                </a:solidFill>
                <a:uFillTx/>
                <a:latin typeface="Calibri"/>
                <a:ea typeface="黑体"/>
              </a:rPr>
              <a:t>绕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6600"/>
                </a:solidFill>
                <a:uFillTx/>
                <a:latin typeface="Calibri"/>
                <a:ea typeface="黑体"/>
              </a:rPr>
              <a:t>口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6600"/>
                </a:solidFill>
                <a:uFillTx/>
                <a:latin typeface="Calibri"/>
                <a:ea typeface="黑体"/>
              </a:rPr>
              <a:t>令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3780000" y="139392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 shì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   是    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  shì   sh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十    是    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ì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十   四  是    十  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 shì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  十   是   四  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  bù  dú  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十   四  不  读  四  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ì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bù  dú  </a:t>
            </a:r>
            <a:r>
              <a:rPr b="0" i="1" lang="zh-CN" sz="2400" spc="-1" strike="noStrike" u="sng">
                <a:solidFill>
                  <a:srgbClr val="ff6600"/>
                </a:solidFill>
                <a:uFillTx/>
                <a:latin typeface="宋体"/>
                <a:ea typeface="宋体"/>
              </a:rPr>
              <a:t>shí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s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  十   不  读  十   四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0" name="同侧圆角矩形 5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105"/>
          <p:cNvPicPr/>
          <p:nvPr/>
        </p:nvPicPr>
        <p:blipFill>
          <a:blip r:embed="rId1"/>
          <a:stretch/>
        </p:blipFill>
        <p:spPr>
          <a:xfrm>
            <a:off x="108000" y="1054080"/>
            <a:ext cx="8966160" cy="5334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914400" y="4267080"/>
            <a:ext cx="731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u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－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lu    re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－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le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WordArt 4"/>
          <p:cNvSpPr txBox="1"/>
          <p:nvPr/>
        </p:nvSpPr>
        <p:spPr>
          <a:xfrm>
            <a:off x="900000" y="2709720"/>
            <a:ext cx="6353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uFillTx/>
                <a:latin typeface="Arial"/>
              </a:rPr>
              <a:t>看谁读得最准</a:t>
            </a:r>
            <a:endParaRPr b="1" i="1" lang="en-US" sz="6000" spc="-1" strike="noStrike" u="sng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日 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755640" y="50720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吃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708360" y="50007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十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书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7380360" y="3573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入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住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出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7675200" y="1773360"/>
            <a:ext cx="11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chū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22920" y="1844640"/>
            <a:ext cx="5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rì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2825640" y="1773360"/>
            <a:ext cx="11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zh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5508720" y="1773360"/>
            <a:ext cx="95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shí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4299480" y="1790640"/>
            <a:ext cx="9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chī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1336320" y="1787400"/>
            <a:ext cx="11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shū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6640560" y="1773360"/>
            <a:ext cx="7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rù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9933ff"/>
                </a:solidFill>
                <a:uFillTx/>
                <a:latin typeface="Comic Sans MS"/>
                <a:ea typeface="楷体_GB2312"/>
              </a:rPr>
              <a:t>戴帽子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225" dur="1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229" dur="1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233" dur="1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237" dur="1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241" dur="1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245" dur="1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249" dur="1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165320" y="1052640"/>
            <a:ext cx="6933960" cy="5274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欢迎台湾小朋友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一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只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船，扬白帆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飘呀飘呀到台湾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接来台湾小朋友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到我学校玩一玩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伸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出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双手紧紧握，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情的话儿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说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不完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3060720" y="1628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zh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2987640" y="45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ch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629080" y="52293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rè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4429080" y="5302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66"/>
                </a:solidFill>
                <a:uFillTx/>
                <a:latin typeface="宋体"/>
                <a:ea typeface="宋体"/>
              </a:rPr>
              <a:t>shu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468360" y="981000"/>
            <a:ext cx="4075200" cy="2608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981000"/>
            <a:ext cx="3095640" cy="267984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2484360" y="3789360"/>
            <a:ext cx="5832720" cy="1440"/>
            <a:chOff x="2484360" y="3789360"/>
            <a:chExt cx="5832720" cy="1440"/>
          </a:xfrm>
        </p:grpSpPr>
        <p:sp>
          <p:nvSpPr>
            <p:cNvPr id="517" name="Line 4"/>
            <p:cNvSpPr/>
            <p:nvPr/>
          </p:nvSpPr>
          <p:spPr>
            <a:xfrm>
              <a:off x="2484360" y="378936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484360" y="378936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484360" y="6381720"/>
            <a:ext cx="5832720" cy="1440"/>
            <a:chOff x="2484360" y="6381720"/>
            <a:chExt cx="5832720" cy="1440"/>
          </a:xfrm>
        </p:grpSpPr>
        <p:sp>
          <p:nvSpPr>
            <p:cNvPr id="520" name="Line 5"/>
            <p:cNvSpPr/>
            <p:nvPr/>
          </p:nvSpPr>
          <p:spPr>
            <a:xfrm>
              <a:off x="2484360" y="638172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2484360" y="638172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484360" y="5516640"/>
            <a:ext cx="5832720" cy="1440"/>
            <a:chOff x="2484360" y="5516640"/>
            <a:chExt cx="5832720" cy="1440"/>
          </a:xfrm>
        </p:grpSpPr>
        <p:sp>
          <p:nvSpPr>
            <p:cNvPr id="523" name="Line 6"/>
            <p:cNvSpPr/>
            <p:nvPr/>
          </p:nvSpPr>
          <p:spPr>
            <a:xfrm>
              <a:off x="2484360" y="5516640"/>
              <a:ext cx="583272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2484360" y="5516640"/>
              <a:ext cx="583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484360" y="4581360"/>
            <a:ext cx="5832720" cy="1800"/>
            <a:chOff x="2484360" y="4581360"/>
            <a:chExt cx="5832720" cy="1800"/>
          </a:xfrm>
        </p:grpSpPr>
        <p:sp>
          <p:nvSpPr>
            <p:cNvPr id="526" name="Line 7"/>
            <p:cNvSpPr/>
            <p:nvPr/>
          </p:nvSpPr>
          <p:spPr>
            <a:xfrm>
              <a:off x="2484360" y="4581360"/>
              <a:ext cx="583272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484360" y="4581360"/>
              <a:ext cx="5832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8" name="Text Box 8"/>
          <p:cNvSpPr/>
          <p:nvPr/>
        </p:nvSpPr>
        <p:spPr>
          <a:xfrm>
            <a:off x="4275360" y="3716280"/>
            <a:ext cx="181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zh</a:t>
            </a:r>
            <a:endParaRPr b="0" i="1" lang="en-US" sz="1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455400" y="40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翘舌音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415280" cy="41590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 flipH="1">
            <a:off x="3492360" y="692280"/>
            <a:ext cx="31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zh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140360" y="2781360"/>
            <a:ext cx="4248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--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zh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—e--zhe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—u--zhu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—u—o--zhuo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108000" y="981000"/>
            <a:ext cx="3505320" cy="2133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64000" y="981000"/>
            <a:ext cx="25146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1535040" y="3114720"/>
            <a:ext cx="5832720" cy="360"/>
            <a:chOff x="1535040" y="3114720"/>
            <a:chExt cx="5832720" cy="360"/>
          </a:xfrm>
        </p:grpSpPr>
        <p:sp>
          <p:nvSpPr>
            <p:cNvPr id="542" name="Line 4"/>
            <p:cNvSpPr/>
            <p:nvPr/>
          </p:nvSpPr>
          <p:spPr>
            <a:xfrm>
              <a:off x="1535040" y="311472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1535040" y="311472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535040" y="6283440"/>
            <a:ext cx="5832720" cy="360"/>
            <a:chOff x="1535040" y="6283440"/>
            <a:chExt cx="5832720" cy="360"/>
          </a:xfrm>
        </p:grpSpPr>
        <p:sp>
          <p:nvSpPr>
            <p:cNvPr id="545" name="Line 5"/>
            <p:cNvSpPr/>
            <p:nvPr/>
          </p:nvSpPr>
          <p:spPr>
            <a:xfrm>
              <a:off x="1535040" y="628344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1535040" y="628344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535040" y="5273640"/>
            <a:ext cx="5832720" cy="3240"/>
            <a:chOff x="1535040" y="5273640"/>
            <a:chExt cx="5832720" cy="3240"/>
          </a:xfrm>
        </p:grpSpPr>
        <p:sp>
          <p:nvSpPr>
            <p:cNvPr id="548" name="Line 6"/>
            <p:cNvSpPr/>
            <p:nvPr/>
          </p:nvSpPr>
          <p:spPr>
            <a:xfrm>
              <a:off x="1535040" y="5273640"/>
              <a:ext cx="5832720" cy="3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1535040" y="5273640"/>
              <a:ext cx="5832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535040" y="4121280"/>
            <a:ext cx="5832720" cy="2880"/>
            <a:chOff x="1535040" y="4121280"/>
            <a:chExt cx="5832720" cy="2880"/>
          </a:xfrm>
        </p:grpSpPr>
        <p:sp>
          <p:nvSpPr>
            <p:cNvPr id="551" name="Line 7"/>
            <p:cNvSpPr/>
            <p:nvPr/>
          </p:nvSpPr>
          <p:spPr>
            <a:xfrm>
              <a:off x="1535040" y="4121280"/>
              <a:ext cx="5832720" cy="2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1535040" y="4121280"/>
              <a:ext cx="583272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3" name="Text Box 8"/>
          <p:cNvSpPr/>
          <p:nvPr/>
        </p:nvSpPr>
        <p:spPr>
          <a:xfrm>
            <a:off x="3330000" y="3114720"/>
            <a:ext cx="2212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ch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6984000" y="882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翘舌音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 flipH="1">
            <a:off x="3784680" y="81108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ch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211640" y="2827440"/>
            <a:ext cx="38908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ch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e—che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u—ch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—u—o--chu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1044720" y="981000"/>
            <a:ext cx="3733560" cy="20876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4861080" y="1054080"/>
            <a:ext cx="2709720" cy="20876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39"/>
          <p:cNvPicPr/>
          <p:nvPr/>
        </p:nvPicPr>
        <p:blipFill>
          <a:blip r:embed="rId3"/>
          <a:stretch/>
        </p:blipFill>
        <p:spPr>
          <a:xfrm>
            <a:off x="7589880" y="3041640"/>
            <a:ext cx="16002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593720" y="3114720"/>
            <a:ext cx="5832720" cy="360"/>
            <a:chOff x="1593720" y="3114720"/>
            <a:chExt cx="5832720" cy="360"/>
          </a:xfrm>
        </p:grpSpPr>
        <p:sp>
          <p:nvSpPr>
            <p:cNvPr id="566" name="Line 5"/>
            <p:cNvSpPr/>
            <p:nvPr/>
          </p:nvSpPr>
          <p:spPr>
            <a:xfrm>
              <a:off x="1593720" y="311472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1593720" y="311472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1593720" y="4121280"/>
            <a:ext cx="5832720" cy="2880"/>
            <a:chOff x="1593720" y="4121280"/>
            <a:chExt cx="5832720" cy="2880"/>
          </a:xfrm>
        </p:grpSpPr>
        <p:sp>
          <p:nvSpPr>
            <p:cNvPr id="569" name="Line 6"/>
            <p:cNvSpPr/>
            <p:nvPr/>
          </p:nvSpPr>
          <p:spPr>
            <a:xfrm>
              <a:off x="1593720" y="4121280"/>
              <a:ext cx="5832720" cy="2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1593720" y="4121280"/>
              <a:ext cx="583272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593720" y="5273640"/>
            <a:ext cx="5832720" cy="3240"/>
            <a:chOff x="1593720" y="5273640"/>
            <a:chExt cx="5832720" cy="3240"/>
          </a:xfrm>
        </p:grpSpPr>
        <p:sp>
          <p:nvSpPr>
            <p:cNvPr id="572" name="Line 7"/>
            <p:cNvSpPr/>
            <p:nvPr/>
          </p:nvSpPr>
          <p:spPr>
            <a:xfrm>
              <a:off x="1593720" y="5273640"/>
              <a:ext cx="5832720" cy="32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1593720" y="5273640"/>
              <a:ext cx="583272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593720" y="6283440"/>
            <a:ext cx="5832720" cy="360"/>
            <a:chOff x="1593720" y="6283440"/>
            <a:chExt cx="5832720" cy="360"/>
          </a:xfrm>
        </p:grpSpPr>
        <p:sp>
          <p:nvSpPr>
            <p:cNvPr id="575" name="Line 8"/>
            <p:cNvSpPr/>
            <p:nvPr/>
          </p:nvSpPr>
          <p:spPr>
            <a:xfrm>
              <a:off x="1593720" y="6283440"/>
              <a:ext cx="58327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1593720" y="6283440"/>
              <a:ext cx="583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7" name="Text Box 9"/>
          <p:cNvSpPr/>
          <p:nvPr/>
        </p:nvSpPr>
        <p:spPr>
          <a:xfrm>
            <a:off x="3346200" y="3114720"/>
            <a:ext cx="2154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sh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" descr=""/>
          <p:cNvPicPr/>
          <p:nvPr/>
        </p:nvPicPr>
        <p:blipFill>
          <a:blip r:embed="rId1"/>
          <a:stretch/>
        </p:blipFill>
        <p:spPr>
          <a:xfrm>
            <a:off x="541440" y="1982880"/>
            <a:ext cx="7829280" cy="42591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3924360" y="836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788000" y="2708280"/>
            <a:ext cx="3816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sh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ɑ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e—she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u—shu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—u—o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—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u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5689440" y="1125360"/>
            <a:ext cx="199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8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r </a:t>
            </a:r>
            <a:endParaRPr b="0" i="1" lang="en-US" sz="1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702320" y="4608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e       ru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9" name="Picture 4" descr="h08-011"/>
          <p:cNvPicPr/>
          <p:nvPr/>
        </p:nvPicPr>
        <p:blipFill>
          <a:blip r:embed="rId1"/>
          <a:stretch/>
        </p:blipFill>
        <p:spPr>
          <a:xfrm>
            <a:off x="76320" y="1347840"/>
            <a:ext cx="4419360" cy="4524480"/>
          </a:xfrm>
          <a:prstGeom prst="rect">
            <a:avLst/>
          </a:prstGeom>
          <a:ln w="0">
            <a:noFill/>
          </a:ln>
        </p:spPr>
      </p:pic>
      <p:sp>
        <p:nvSpPr>
          <p:cNvPr id="5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12600" y="3556080"/>
            <a:ext cx="9296640" cy="360"/>
            <a:chOff x="12600" y="3556080"/>
            <a:chExt cx="9296640" cy="360"/>
          </a:xfrm>
        </p:grpSpPr>
        <p:sp>
          <p:nvSpPr>
            <p:cNvPr id="594" name="Line 2"/>
            <p:cNvSpPr/>
            <p:nvPr/>
          </p:nvSpPr>
          <p:spPr>
            <a:xfrm>
              <a:off x="12600" y="35560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12600" y="35560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2600" y="4241880"/>
            <a:ext cx="9296640" cy="360"/>
            <a:chOff x="12600" y="4241880"/>
            <a:chExt cx="9296640" cy="360"/>
          </a:xfrm>
        </p:grpSpPr>
        <p:sp>
          <p:nvSpPr>
            <p:cNvPr id="597" name="Line 3"/>
            <p:cNvSpPr/>
            <p:nvPr/>
          </p:nvSpPr>
          <p:spPr>
            <a:xfrm>
              <a:off x="12600" y="42418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12600" y="42418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12600" y="4927680"/>
            <a:ext cx="9296640" cy="360"/>
            <a:chOff x="12600" y="4927680"/>
            <a:chExt cx="9296640" cy="360"/>
          </a:xfrm>
        </p:grpSpPr>
        <p:sp>
          <p:nvSpPr>
            <p:cNvPr id="600" name="Line 4"/>
            <p:cNvSpPr/>
            <p:nvPr/>
          </p:nvSpPr>
          <p:spPr>
            <a:xfrm>
              <a:off x="12600" y="4927680"/>
              <a:ext cx="92966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12600" y="4927680"/>
              <a:ext cx="929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4920" y="5661000"/>
            <a:ext cx="9296280" cy="360"/>
            <a:chOff x="34920" y="5661000"/>
            <a:chExt cx="9296280" cy="360"/>
          </a:xfrm>
        </p:grpSpPr>
        <p:sp>
          <p:nvSpPr>
            <p:cNvPr id="603" name="Line 5"/>
            <p:cNvSpPr/>
            <p:nvPr/>
          </p:nvSpPr>
          <p:spPr>
            <a:xfrm>
              <a:off x="34920" y="5661000"/>
              <a:ext cx="9296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34920" y="5661000"/>
              <a:ext cx="929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5" name="Text Box 6"/>
          <p:cNvSpPr/>
          <p:nvPr/>
        </p:nvSpPr>
        <p:spPr>
          <a:xfrm>
            <a:off x="7342920" y="3387600"/>
            <a:ext cx="139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r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-6840" y="3448080"/>
            <a:ext cx="225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zh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2306160" y="3403440"/>
            <a:ext cx="228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ch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-520560" y="1265400"/>
            <a:ext cx="10058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楷体_GB2312"/>
              </a:rPr>
              <a:t>zh  ch  sh  r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4790520" y="3403440"/>
            <a:ext cx="224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12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sh 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32:00Z</dcterms:created>
  <dc:creator>www.xkb1.com</dc:creator>
  <dc:description>www.xkb1.com</dc:description>
  <cp:keywords>www.xkb1.com</cp:keywords>
  <dc:language>en-US</dc:language>
  <cp:lastModifiedBy>万润仪器贸易公司</cp:lastModifiedBy>
  <dcterms:modified xsi:type="dcterms:W3CDTF">2020-08-24T01:41:58Z</dcterms:modified>
  <cp:revision>620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